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34E-EE28-4948-B3BC-F59C0EF4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678-6B50-41A9-83C5-9DC4A0A9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297-3A30-4967-807F-CBEC0B6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344-957E-4385-99DB-E1BBE208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A76-8A83-42A0-81EA-C9CC0211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8A0-FFD6-4768-91DD-42D7DBAF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7EA-3A2C-4372-AD6D-49FB66C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E94-23B0-4851-B8D3-25EA2A3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D6A-3FEF-4E89-9E8B-DB5DBB4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2E-BDBF-40EF-A980-0F7C863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E14-4E65-4451-9E7C-78045A9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9AE-F076-4CE2-9BC7-8B646EB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22507B34-E8F2-4FC4-8F65-6E4EFCE32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3.xml"/><Relationship Id="rId3" Type="http://schemas.openxmlformats.org/officeDocument/2006/relationships/slide" Target="slide48.xml"/><Relationship Id="rId4" Type="http://schemas.openxmlformats.org/officeDocument/2006/relationships/slide" Target="slide43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39.xml"/><Relationship Id="rId8" Type="http://schemas.openxmlformats.org/officeDocument/2006/relationships/slide" Target="slide64.xml"/><Relationship Id="rId9" Type="http://schemas.openxmlformats.org/officeDocument/2006/relationships/slide" Target="slide59.xml"/><Relationship Id="rId10" Type="http://schemas.openxmlformats.org/officeDocument/2006/relationships/slide" Target="slide57.xml"/><Relationship Id="rId11" Type="http://schemas.openxmlformats.org/officeDocument/2006/relationships/slide" Target="slide49.xml"/><Relationship Id="rId12" Type="http://schemas.openxmlformats.org/officeDocument/2006/relationships/slide" Target="slide44.xml"/><Relationship Id="rId13" Type="http://schemas.openxmlformats.org/officeDocument/2006/relationships/slide" Target="slide40.xml"/><Relationship Id="rId14" Type="http://schemas.openxmlformats.org/officeDocument/2006/relationships/slide" Target="slide45.xml"/><Relationship Id="rId15" Type="http://schemas.openxmlformats.org/officeDocument/2006/relationships/slide" Target="slide50.xml"/><Relationship Id="rId16" Type="http://schemas.openxmlformats.org/officeDocument/2006/relationships/slide" Target="slide60.xml"/><Relationship Id="rId17" Type="http://schemas.openxmlformats.org/officeDocument/2006/relationships/slide" Target="slide65.xml"/><Relationship Id="rId18" Type="http://schemas.openxmlformats.org/officeDocument/2006/relationships/slide" Target="slide51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1.xml"/><Relationship Id="rId22" Type="http://schemas.openxmlformats.org/officeDocument/2006/relationships/slide" Target="slide66.xml"/><Relationship Id="rId23" Type="http://schemas.openxmlformats.org/officeDocument/2006/relationships/slide" Target="slide42.xml"/><Relationship Id="rId24" Type="http://schemas.openxmlformats.org/officeDocument/2006/relationships/slide" Target="slide62.xml"/><Relationship Id="rId25" Type="http://schemas.openxmlformats.org/officeDocument/2006/relationships/slide" Target="slide47.xml"/><Relationship Id="rId26" Type="http://schemas.openxmlformats.org/officeDocument/2006/relationships/slide" Target="slide52.xml"/><Relationship Id="rId27" Type="http://schemas.openxmlformats.org/officeDocument/2006/relationships/slide" Target="slide54.xml"/><Relationship Id="rId28" Type="http://schemas.openxmlformats.org/officeDocument/2006/relationships/slide" Target="slide67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" Target="slide11.xml"/><Relationship Id="rId4" Type="http://schemas.openxmlformats.org/officeDocument/2006/relationships/slide" Target="slide26.xml"/><Relationship Id="rId5" Type="http://schemas.openxmlformats.org/officeDocument/2006/relationships/slide" Target="slide31.xml"/><Relationship Id="rId6" Type="http://schemas.openxmlformats.org/officeDocument/2006/relationships/slide" Target="slide7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2.xml"/><Relationship Id="rId10" Type="http://schemas.openxmlformats.org/officeDocument/2006/relationships/slide" Target="slide17.xml"/><Relationship Id="rId11" Type="http://schemas.openxmlformats.org/officeDocument/2006/relationships/slide" Target="slide12.xml"/><Relationship Id="rId12" Type="http://schemas.openxmlformats.org/officeDocument/2006/relationships/slide" Target="slide6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28.xml"/><Relationship Id="rId17" Type="http://schemas.openxmlformats.org/officeDocument/2006/relationships/slide" Target="slide33.xml"/><Relationship Id="rId18" Type="http://schemas.openxmlformats.org/officeDocument/2006/relationships/slide" Target="slide1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24.xml"/><Relationship Id="rId22" Type="http://schemas.openxmlformats.org/officeDocument/2006/relationships/slide" Target="slide29.xml"/><Relationship Id="rId23" Type="http://schemas.openxmlformats.org/officeDocument/2006/relationships/slide" Target="slide34.xml"/><Relationship Id="rId24" Type="http://schemas.openxmlformats.org/officeDocument/2006/relationships/slide" Target="slide10.xml"/><Relationship Id="rId25" Type="http://schemas.openxmlformats.org/officeDocument/2006/relationships/slide" Target="slide30.xml"/><Relationship Id="rId26" Type="http://schemas.openxmlformats.org/officeDocument/2006/relationships/slide" Target="slide16.xml"/><Relationship Id="rId27" Type="http://schemas.openxmlformats.org/officeDocument/2006/relationships/slide" Target="slide35.xml"/><Relationship Id="rId28" Type="http://schemas.openxmlformats.org/officeDocument/2006/relationships/audio" Target="../media/boardfill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oh(1).wav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ructure connects the right cerebral hemisphere with the left cerebral hemisp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orpus callos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peripheral nervous system controls involuntary body func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utonomic Nervous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086600" y="8153280"/>
            <a:ext cx="1752480" cy="152424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4" h="21600">
                <a:moveTo>
                  <a:pt x="0" y="0"/>
                </a:moveTo>
                <a:lnTo>
                  <a:pt x="24834" y="0"/>
                </a:lnTo>
                <a:lnTo>
                  <a:pt x="24834" y="21600"/>
                </a:lnTo>
                <a:lnTo>
                  <a:pt x="0" y="21600"/>
                </a:lnTo>
                <a:close/>
              </a:path>
              <a:path fill="lightenLess" w="24834" h="21600">
                <a:moveTo>
                  <a:pt x="0" y="0"/>
                </a:moveTo>
                <a:lnTo>
                  <a:pt x="24834" y="0"/>
                </a:lnTo>
                <a:lnTo>
                  <a:pt x="23434" y="1400"/>
                </a:lnTo>
                <a:lnTo>
                  <a:pt x="1400" y="1400"/>
                </a:lnTo>
                <a:close/>
              </a:path>
              <a:path fill="darken" w="24834" h="21600">
                <a:moveTo>
                  <a:pt x="24834" y="0"/>
                </a:moveTo>
                <a:lnTo>
                  <a:pt x="24834" y="21600"/>
                </a:lnTo>
                <a:lnTo>
                  <a:pt x="23434" y="20200"/>
                </a:lnTo>
                <a:lnTo>
                  <a:pt x="23434" y="1400"/>
                </a:lnTo>
                <a:close/>
              </a:path>
              <a:path fill="darkenLess" w="24834" h="21600">
                <a:moveTo>
                  <a:pt x="24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4" y="20200"/>
                </a:lnTo>
                <a:close/>
              </a:path>
              <a:path fill="lighten" w="24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4" h="21600">
                <a:moveTo>
                  <a:pt x="124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4" h="21600">
                <a:moveTo>
                  <a:pt x="13522" y="14281"/>
                </a:moveTo>
                <a:lnTo>
                  <a:pt x="13522" y="12323"/>
                </a:lnTo>
                <a:cubicBezTo>
                  <a:pt x="13522" y="11496"/>
                  <a:pt x="13853" y="10800"/>
                  <a:pt x="14453" y="10800"/>
                </a:cubicBezTo>
                <a:cubicBezTo>
                  <a:pt x="15585" y="10800"/>
                  <a:pt x="16481" y="9434"/>
                  <a:pt x="16481" y="7849"/>
                </a:cubicBezTo>
                <a:cubicBezTo>
                  <a:pt x="16481" y="5534"/>
                  <a:pt x="14628" y="3794"/>
                  <a:pt x="12417" y="3794"/>
                </a:cubicBezTo>
                <a:cubicBezTo>
                  <a:pt x="10206" y="3794"/>
                  <a:pt x="8535" y="5534"/>
                  <a:pt x="8535" y="7849"/>
                </a:cubicBezTo>
                <a:lnTo>
                  <a:pt x="10389" y="7849"/>
                </a:lnTo>
                <a:cubicBezTo>
                  <a:pt x="10389" y="6709"/>
                  <a:pt x="11311" y="5821"/>
                  <a:pt x="12417" y="5821"/>
                </a:cubicBezTo>
                <a:cubicBezTo>
                  <a:pt x="13522" y="5821"/>
                  <a:pt x="14453" y="6709"/>
                  <a:pt x="14453" y="7849"/>
                </a:cubicBezTo>
                <a:cubicBezTo>
                  <a:pt x="14453" y="8589"/>
                  <a:pt x="13983" y="9320"/>
                  <a:pt x="13522" y="9320"/>
                </a:cubicBezTo>
                <a:cubicBezTo>
                  <a:pt x="12417" y="9320"/>
                  <a:pt x="11311" y="10800"/>
                  <a:pt x="11311" y="12323"/>
                </a:cubicBezTo>
                <a:lnTo>
                  <a:pt x="1131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autonomic nervous system is responsible for preparing the body for 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ympathetic divi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858000" y="8305920"/>
            <a:ext cx="1981080" cy="152388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1403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9" h="21600">
                <a:moveTo>
                  <a:pt x="15145" y="14281"/>
                </a:moveTo>
                <a:lnTo>
                  <a:pt x="15145" y="12323"/>
                </a:lnTo>
                <a:cubicBezTo>
                  <a:pt x="15145" y="11496"/>
                  <a:pt x="15476" y="10800"/>
                  <a:pt x="16076" y="10800"/>
                </a:cubicBezTo>
                <a:cubicBezTo>
                  <a:pt x="17208" y="10800"/>
                  <a:pt x="18104" y="9434"/>
                  <a:pt x="18104" y="7849"/>
                </a:cubicBezTo>
                <a:cubicBezTo>
                  <a:pt x="18104" y="5534"/>
                  <a:pt x="16250" y="3794"/>
                  <a:pt x="14039" y="3794"/>
                </a:cubicBezTo>
                <a:cubicBezTo>
                  <a:pt x="11829" y="3794"/>
                  <a:pt x="10158" y="5534"/>
                  <a:pt x="10158" y="7849"/>
                </a:cubicBezTo>
                <a:lnTo>
                  <a:pt x="12012" y="7849"/>
                </a:lnTo>
                <a:cubicBezTo>
                  <a:pt x="12012" y="6709"/>
                  <a:pt x="12934" y="5821"/>
                  <a:pt x="14039" y="5821"/>
                </a:cubicBezTo>
                <a:cubicBezTo>
                  <a:pt x="15145" y="5821"/>
                  <a:pt x="16076" y="6709"/>
                  <a:pt x="16076" y="7849"/>
                </a:cubicBezTo>
                <a:cubicBezTo>
                  <a:pt x="16076" y="8589"/>
                  <a:pt x="15606" y="9320"/>
                  <a:pt x="15145" y="9320"/>
                </a:cubicBezTo>
                <a:cubicBezTo>
                  <a:pt x="14039" y="9320"/>
                  <a:pt x="12934" y="10800"/>
                  <a:pt x="12934" y="12323"/>
                </a:cubicBezTo>
                <a:lnTo>
                  <a:pt x="1293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division of the autonomic nervous system involves voluntary muscle action?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omatic nervous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ere are interneurons locat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pinal c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Which part of the neuron  receives inform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ndr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hree neurons are involved in a spinal refle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nsory neuron, interneuron, and motor neu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art of the neuron transmits informa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x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6934320" y="7696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junction where axons and dendrites me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ynap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what part of the neuron can the nucleus be f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ell bo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1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1321452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layer of insulation that covers the axon in a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yelin She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ignal is transmitted in a neuron along its ax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ic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t rest, what is the charge on the inside of the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Negati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ion channels open up as a nerve impulse travels down an ax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od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ignal is transmitted at the synap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Chemic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rocess is involved in the release of neutransmitters at the synapse of a neu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xocyt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s are sensitive to ligh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Phot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names of the two receptors in the retina of the eye that perceive light and col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ds and c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 is involved in both taste and smel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hem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receptors are stimulated by vibrations within the 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echanorecept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tructures within the ear is responsible for sensing body posi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micircular can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is responsible of intellectual fun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ron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processes information from the auditory ner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empor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an involuntary response to a stimul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efle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o which lobe of the brain does the optic nerve trav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Occipi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lobe of the brain is responsible for somatosensory process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arietal lob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JJ Thomson’s atomic mode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lum Pudd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-609480"/>
            <a:ext cx="26668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ntral Nervou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685800"/>
            <a:ext cx="2286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380880"/>
            <a:ext cx="2438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rve Impul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77920" y="60948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96480" y="304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nsory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286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pheral Nervou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nuclear model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atomic theorist developed the concept of the atom without experiment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In terms of charge, how would you compare a proton and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qual and oppos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particle, proton or electron, is attracted to the cathode of a CR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electrons are there in a calcium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energy determines whether a fission or fusion reaction takes place</a:t>
            </a:r>
            <a:r>
              <a:rPr b="0" i="1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Binding ener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active 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subatomic particle is beta radiation composed of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decay would occur in an isotope that has 4 neutrons and 2 prot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eta radi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has the least penetrating pow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o the mass of a proton and the mass of a neuron compa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are roughly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two main components of the central nervous sy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rain and Spinal C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alpha particles composed of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ositively charged helium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0">
              <a:spcBef>
                <a:spcPts val="1800"/>
              </a:spcBef>
              <a:buNone/>
              <a:tabLst>
                <a:tab algn="l" pos="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What type of nuclear reaction occurs in small nuclei to bring about stability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u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caused maximum deflection of alpha particles in Rutherford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Prot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equation accounts for the conversion of mass into energy in nuclear reactio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=mc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What subatomic particle was discovered by inference to account for the discrepancy between particle mass and atomic ma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utr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type of radiation would not be deflected by a magne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Gam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largest part of the brain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erebr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6629400" y="7315200"/>
            <a:ext cx="2819520" cy="1981080"/>
          </a:xfrm>
          <a:custGeom>
            <a:avLst/>
            <a:gdLst>
              <a:gd name="textAreaLeft" fmla="*/ 128160 w 2819520"/>
              <a:gd name="textAreaRight" fmla="*/ 2691360 w 281952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40" h="21600">
                <a:moveTo>
                  <a:pt x="0" y="0"/>
                </a:moveTo>
                <a:lnTo>
                  <a:pt x="30740" y="0"/>
                </a:lnTo>
                <a:lnTo>
                  <a:pt x="30740" y="21600"/>
                </a:lnTo>
                <a:lnTo>
                  <a:pt x="0" y="21600"/>
                </a:lnTo>
                <a:close/>
              </a:path>
              <a:path fill="lightenLess" w="30740" h="21600">
                <a:moveTo>
                  <a:pt x="0" y="0"/>
                </a:moveTo>
                <a:lnTo>
                  <a:pt x="30740" y="0"/>
                </a:lnTo>
                <a:lnTo>
                  <a:pt x="29340" y="1400"/>
                </a:lnTo>
                <a:lnTo>
                  <a:pt x="1400" y="1400"/>
                </a:lnTo>
                <a:close/>
              </a:path>
              <a:path fill="darken" w="30740" h="21600">
                <a:moveTo>
                  <a:pt x="30740" y="0"/>
                </a:moveTo>
                <a:lnTo>
                  <a:pt x="30740" y="21600"/>
                </a:lnTo>
                <a:lnTo>
                  <a:pt x="29340" y="20200"/>
                </a:lnTo>
                <a:lnTo>
                  <a:pt x="29340" y="1400"/>
                </a:lnTo>
                <a:close/>
              </a:path>
              <a:path fill="darkenLess" w="30740" h="21600">
                <a:moveTo>
                  <a:pt x="30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0" y="20200"/>
                </a:lnTo>
                <a:close/>
              </a:path>
              <a:path fill="lighten" w="30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0" h="21600">
                <a:moveTo>
                  <a:pt x="153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40" h="21600">
                <a:moveTo>
                  <a:pt x="16475" y="14281"/>
                </a:moveTo>
                <a:lnTo>
                  <a:pt x="16475" y="12323"/>
                </a:lnTo>
                <a:cubicBezTo>
                  <a:pt x="16475" y="11496"/>
                  <a:pt x="16806" y="10800"/>
                  <a:pt x="17407" y="10800"/>
                </a:cubicBezTo>
                <a:cubicBezTo>
                  <a:pt x="18538" y="10800"/>
                  <a:pt x="19435" y="9434"/>
                  <a:pt x="19435" y="7849"/>
                </a:cubicBezTo>
                <a:cubicBezTo>
                  <a:pt x="19435" y="5534"/>
                  <a:pt x="17581" y="3794"/>
                  <a:pt x="15370" y="3794"/>
                </a:cubicBezTo>
                <a:cubicBezTo>
                  <a:pt x="13159" y="3794"/>
                  <a:pt x="11488" y="5534"/>
                  <a:pt x="11488" y="7849"/>
                </a:cubicBezTo>
                <a:lnTo>
                  <a:pt x="13342" y="7849"/>
                </a:lnTo>
                <a:cubicBezTo>
                  <a:pt x="13342" y="6709"/>
                  <a:pt x="14265" y="5821"/>
                  <a:pt x="15370" y="5821"/>
                </a:cubicBezTo>
                <a:cubicBezTo>
                  <a:pt x="16475" y="5821"/>
                  <a:pt x="17407" y="6709"/>
                  <a:pt x="17407" y="7849"/>
                </a:cubicBezTo>
                <a:cubicBezTo>
                  <a:pt x="17407" y="8589"/>
                  <a:pt x="16937" y="9320"/>
                  <a:pt x="16475" y="9320"/>
                </a:cubicBezTo>
                <a:cubicBezTo>
                  <a:pt x="15370" y="9320"/>
                  <a:pt x="14265" y="10800"/>
                  <a:pt x="14265" y="12323"/>
                </a:cubicBezTo>
                <a:lnTo>
                  <a:pt x="1426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tructure in the central nervous system is responsible for bala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cerebell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are the two components of the brain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pons and the medulla oblonga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udsd</cp:lastModifiedBy>
  <dcterms:modified xsi:type="dcterms:W3CDTF">2008-12-12T14:16:23Z</dcterms:modified>
  <cp:revision>88</cp:revision>
  <dc:subject/>
  <dc:title>Jeopardy</dc:title>
</cp:coreProperties>
</file>